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6C1-DF37-49B8-B2AC-A7F2B6F4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853-BAEF-4DDB-BB12-5C60CEF5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894-B1DF-4541-8290-93472039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9C0-1ACD-4043-A914-2DD59C8B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9ED-F56E-4215-800C-69EF1BA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CEE-42C8-47F3-BAB6-92EE5B1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4F2-B645-4A12-9A66-F4DF7DCB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21C-7AF7-49C9-A1C2-4F96B1B2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D9D-3CCF-40F0-ADA0-ABCFE949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ECC-758A-4782-A499-9C107B37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88C-6C20-44B0-BFC5-42455586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DF7-24B3-4B0E-8A8D-B22EFE06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5684-D7DE-45D0-8820-DB43280EF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schwitz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58672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y: Anjali Row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563868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z.about.com/d/history1900s/1/0/f/7/auschwitz1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2578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bodies in a gas 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s a Jewish concentration camp complex that was established by the Nazi’s to carry out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 was mainly for Polish political prisoners many of them died from starvation, diseases, or harsh trea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 was a primarily an extermination (mass killing) facility. Later on they included 4 large gas chambers were people were killed with large amounts of poisonous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I opened mainly as a slave labor center where they made synthetic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45720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 went on inside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981080" cy="1301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676520"/>
            <a:ext cx="220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3.bp.blogspot.com/_FKUpGU_Jbp0/SYDEwEMM1SI/AAAAAAAABTY/i6ju2XYN_F0/s400/gas+chambers+-+Auschwitz.jp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s a Jewish concentration camp complex that was established by the Nazi’s to carry out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re were 3 different “Auschwit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 (May 19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 (early 19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I (October 19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rst was created in May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ted approximately 37 miles west of Krakow, near the German-Polish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38280" y="380880"/>
            <a:ext cx="4496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en and Where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514600" cy="1579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5880" y="472428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leithjb.net/blog/wp-content/uploads/2008/11/Auschwitz_map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419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 of Auschwitz I and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people that were involved was 1 ¼ million people, mostly Jews were killed at Auschwit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other victims included other races such as: Poles, Roma ( sometimes called Gypsies) , and Soviet prisoners of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09680" y="45720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o Was Involved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4960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61722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flyingchariotministries.com/260px-Star_of_David_svg.p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2043000" cy="141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8320" y="594360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holocaustresearchproject.org/nazioccupation/images/Soviet%20prisoners%20of%20war%20arrive%20at%20the%20Majdanek%20camp.jp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tler wanted them all gone because the “mass” wanted them gone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lamed the communists, then he blamed the Slavs, and then he blamed the Je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people believe that this event happened mainly because Hitler disliked the Jews and wanted them all gone. Hitler also blamed them for Germany’s economic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0" y="5335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y Hitler wanted them dead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80972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5105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733920" y="4876920"/>
            <a:ext cx="17571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ted States Holocaust Memorial Museum. "The Holocaust."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Holocaust Encyclopedia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ttp://www.ushmm.org/wlc/en/index.php?ModuleId=10005143 (accessed September 8, 200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gel, David. "Auschwitz."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World Book Student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orld Book, 2009. Web. 11 Dec. 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66880" y="53352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bliography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3:09Z</dcterms:created>
  <dc:creator>21049</dc:creator>
  <dc:description/>
  <dc:language>en-US</dc:language>
  <cp:lastModifiedBy>21049</cp:lastModifiedBy>
  <dcterms:modified xsi:type="dcterms:W3CDTF">2009-12-16T17:53:58Z</dcterms:modified>
  <cp:revision>16</cp:revision>
  <dc:subject/>
  <dc:title>Slide 1</dc:title>
</cp:coreProperties>
</file>